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E2C4-B1F2-434B-9D02-48DC4B07A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D699-3727-41DC-BBA1-49F13F181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DADA-4FA4-437F-919D-58A70AFCB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CC51-B661-4574-8B0D-3D5B6A82A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F547-1B92-4C28-89A8-C89C517DC7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3F47-925E-41F4-B4CC-77832ACFA5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421A-1D88-4F4D-B2A9-578A291BFE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CB0F-8E45-4D18-9EBD-BAD0B88773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1FAC-9AC0-4031-8966-60B85C5F0D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5501-9876-4A1D-B9F6-4903DD4420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C3B5-3043-4DF9-8D4C-B6920CBC7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B5B9-8740-488B-BC02-E67A29855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BCD1-F9B0-4EBF-A572-7C1103699F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00399-C251-453B-9258-F8A5D41A58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9D0E-D2DA-42B5-ACAD-C0336C1422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73B1-C788-4977-9F62-75E0DACD59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9D0A-054B-45F5-87D4-962A75DC2B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167-E730-4FCA-99BF-8362244AD9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EF3-8D6D-409E-8AAD-5774AD8456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2C6-E6BD-4C3B-A450-95FD43ABF0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8EB-77BD-4FA5-A869-3B97BED81A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476-F262-4C4D-9238-F0B7561B77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A7D1-B46C-4E1C-A870-DA1DD749DE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38D-B574-4E9C-9B69-A964C6E473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62A-00ED-492A-85DC-A15D0A2F30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870-C7C2-4094-AF3A-2FF81E3135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4B7F-2B98-4917-A8A0-72A2D8A4D2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051-6539-44E8-9F47-DC20645785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9D6-E829-4145-AEFC-F50C75B438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B98-06E4-4F37-ADAA-F366F9E8F6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76CF7-5BAB-4FEB-8F69-3BB04A2B66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D155D-F778-43B1-8A6A-5F71C73858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131BD-222E-4362-9199-0B5F13235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A021-862D-48B7-9C20-6F205687B6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401C9-A956-4057-A5D5-C61F67FD71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6259F-ABAC-48B0-8499-3B46E043E2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CF69D-AFAD-4AD2-AC62-FF4063A318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DF18A-79E8-4A75-AE35-F22B31722C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8DC83-F959-4584-9CF9-E8A56925C8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B6EB0-5E81-49BB-AC80-E92A2B7A7A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379B7-AE3E-4B20-A955-1476C6D47E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E8D2E-FEA7-4570-91F9-74DF545EE3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126E8-C30D-406F-AC5C-E60ABAC028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78C68-9417-4726-9FBD-623FD4C16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55C3-D7BF-4707-B525-E18C108562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23A47-B430-482F-840A-F93203085F8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9A71-F08B-4474-870F-C0C4B529B12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E4688-2C56-41D0-9AF7-DED4E2EE4C6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B3D52-C8BF-49AA-8315-21BC18F72D1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224F3-1DDB-47B5-9B0B-7EA61AC8018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14FCF-8547-4F99-9947-FF4A5731186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EAB4D-A96E-4A35-86B8-BF8AF851B61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FA5C8-82D3-4FF5-A5C9-3D061359DC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8FD82-786A-4E47-8D21-11DB702AD72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632C9-69BD-4329-A152-83BCC8014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EB9E-2FEF-4FBF-8FE7-68383CADEB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AABDB-AFB3-4327-A6FB-440DC025592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6F9F-5D91-494F-9464-4146C94ED0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9231-78B8-4556-A80C-5D0FA39E545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964C-AA26-4DC3-8792-C31B9CB2CCC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19E3-2B3D-4D4A-AA63-930BD8283F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1C34-B8FE-4B08-B104-34FB54DBAEA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60AE-7572-4B80-B54D-6CBDF5547B4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16EF-C07B-40A6-9D74-9C7D115B157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BB3E-8D5F-4456-8D24-99A82AE9187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17EB-6545-41AA-B975-B155C9449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2697-80DC-4978-A3BB-28B4F804C0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43EF-AA23-46B4-AD92-5C2FF554295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21F8-A722-419D-9ED5-F2CDA75305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6F4E-139A-4DCA-96F4-FA0900DBCB0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271F9-D00B-42AD-AC1A-0E46ED1CBE3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70EED-AAFC-4155-84B2-27805603A7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595D8-8FFF-4317-9E38-F9CE4CF94A4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D1C8B-FB7F-4748-88C6-42BD6F9C26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C1A737-3FB6-4D14-92F5-E5D3DF7F3A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BA1B2B-7B86-4757-99B5-A9F6FB2DB43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C285D-1951-40A7-B390-39B7FC9FC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9DA1-199C-4BE0-8341-2D6BB1CEEDC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7FA7E-5201-46CC-BAD1-E8FF776488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98ACCA-E406-4FBF-9473-CCB23F0A8A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E3DF1B-4049-49E6-AB9B-E303C27BA7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914769-4C98-4355-A831-139744BA02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6917A-A511-4A97-A433-3DF9A4FDC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9A4E-BB05-46A0-90CF-A2355E6BF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594C-B0B5-4E1C-B6BA-3C92CE8DFBF7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62360" y="6248520"/>
            <a:ext cx="2826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7AE6-2AA0-414B-8755-4CAD257939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F41D-D03B-4DC3-9898-8B03D11B22DA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8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DD4B-FC3B-494E-89BE-F5A1C685FA9F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5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E147-50D4-435B-A887-3E2FA0377654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6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ABC7-0685-44E9-A20B-E1BB3CE2E854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7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F5E9-D927-400D-9F34-3B72DBB83A9C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7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8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round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3700080"/>
            <a:ext cx="8305920" cy="3157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Lucida Grande"/>
              </a:rPr>
              <a:t>1250-1522 A.D.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77360" y="444240"/>
            <a:ext cx="4038840" cy="6413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cc"/>
                </a:solidFill>
                <a:latin typeface="Lucida Grande"/>
              </a:rPr>
              <a:t>Religion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Polytheistic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hief god was Huitzilopochtli, the sun God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Fought with darkness each night to raise the sun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No promise the sun would win and rise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Sacrifice ensured sun would rise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3125880" cy="49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Human sacrifice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About 20,000 per year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Mostly prisoners of war, some slaves, some nobles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Constant warfare necessary to have enough prisoners of war around to sacrifice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04560" y="291600"/>
            <a:ext cx="838188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dcc"/>
                </a:solidFill>
                <a:latin typeface="Lucida Grande"/>
              </a:rPr>
              <a:t>Social Classes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Emperor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Nobles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Priests who appointed King and conducted rituals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Merchants: 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Carried goods on their backs by a strap over their foreheads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Traded by feet or by small boat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Also served as spies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Commoners who farmed land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Warriors who could rise in status by capturing and killing enemies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Landless peasants wandered in search of work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Slaves were mostly prisoners of war and criminals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Could own land</a:t>
            </a:r>
            <a:endParaRPr b="0" lang="en-US" sz="28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Could buy freedom</a:t>
            </a:r>
            <a:endParaRPr b="0" lang="en-US" sz="28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86920" y="329760"/>
            <a:ext cx="4178520" cy="64897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dcc"/>
                </a:solidFill>
                <a:latin typeface="Lucida Grande"/>
              </a:rPr>
              <a:t>Achievements-Calendar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365 day calendar and a 260 day ritual calendar</a:t>
            </a:r>
            <a:br>
              <a:rPr sz="2900"/>
            </a:b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Calculates the end of the world as December 21, 2012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686480" y="1817640"/>
            <a:ext cx="405900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75840" y="177840"/>
            <a:ext cx="414036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cc"/>
                </a:solidFill>
                <a:latin typeface="Lucida Grande"/>
              </a:rPr>
              <a:t>End of Aztec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Spanish came in 1519 A.D. search of Gold, God, and Glor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Led by Hernan Cortes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Aztec thought Cortes was the god Quetzalcoatl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48320" y="2405160"/>
            <a:ext cx="405900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405936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Emperor Montezuma II (Moctezuma II) taken hostage and neighboring tribes joined Spanish</a:t>
            </a:r>
            <a:br>
              <a:rPr sz="2900"/>
            </a:b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3/4 of all Aztecs died from war and disease (Small Pox and Plague)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191120" y="2057400"/>
            <a:ext cx="4363920" cy="37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934320" y="6324480"/>
            <a:ext cx="22860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82" name=""/>
          <p:cNvSpPr/>
          <p:nvPr/>
        </p:nvSpPr>
        <p:spPr>
          <a:xfrm>
            <a:off x="-139680" y="1905120"/>
            <a:ext cx="91695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Conquistadors:</a:t>
            </a:r>
            <a:endParaRPr b="0" lang="en-US" sz="3400" spc="-1" strike="noStrike">
              <a:solidFill>
                <a:srgbClr val="ffffff"/>
              </a:solidFill>
              <a:latin typeface="Lucida Grande"/>
            </a:endParaRPr>
          </a:p>
          <a:p>
            <a:pPr marL="39600" algn="ctr">
              <a:lnSpc>
                <a:spcPct val="80000"/>
              </a:lnSpc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Spanish soldiers who came to the New World to help conquer and settle the Americas for Spain.</a:t>
            </a:r>
            <a:endParaRPr b="0" lang="en-US" sz="3400" spc="-1" strike="noStrike">
              <a:solidFill>
                <a:srgbClr val="ffffff"/>
              </a:solidFill>
              <a:latin typeface="Lucida Grande"/>
            </a:endParaRPr>
          </a:p>
          <a:p>
            <a:pPr marL="39600" algn="ctr">
              <a:lnSpc>
                <a:spcPct val="80000"/>
              </a:lnSpc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ome of their methods were harsh and brutal especially to the Native American population.</a:t>
            </a:r>
            <a:endParaRPr b="0" lang="en-US" sz="3400" spc="-1" strike="noStrike">
              <a:solidFill>
                <a:srgbClr val="ffffff"/>
              </a:solidFill>
              <a:latin typeface="Lucida Grande"/>
            </a:endParaRPr>
          </a:p>
          <a:p>
            <a:pPr marL="39600" algn="ctr">
              <a:lnSpc>
                <a:spcPct val="80000"/>
              </a:lnSpc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With every Spanish explorer were conquistadors and members of the Catholic Church to convert Native Americans.</a:t>
            </a:r>
            <a:br>
              <a:rPr sz="3400"/>
            </a:br>
            <a:r>
              <a:rPr b="0" lang="en-US" sz="3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600200" y="1366920"/>
            <a:ext cx="5943600" cy="4886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128520" y="146160"/>
            <a:ext cx="8564760" cy="1231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33920" y="2819520"/>
            <a:ext cx="2692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&lt;- LAKE TEXCOCO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10960" y="520560"/>
            <a:ext cx="4305600" cy="63374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cc"/>
                </a:solidFill>
                <a:latin typeface="Lucida Grande"/>
              </a:rPr>
              <a:t>Aztec Location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Located in the Valley of Mexico around Lake Texcoco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Legend said find a cactus with a bird perched that had a snake in its  mouth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Land dry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Aztecs shifted from hunting to farming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34495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Capital city Tenochtitlán – present day Mexico cit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efac9"/>
                </a:solidFill>
                <a:latin typeface="Lucida Grande"/>
              </a:rPr>
              <a:t>Located in the middle of a lake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efac9"/>
                </a:solidFill>
                <a:latin typeface="Lucida Grande"/>
              </a:rPr>
              <a:t>Linked to mainland by strips of land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324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405936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Teotihuacán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Dominated the Valley of Mexico from 100-750 A.D.</a:t>
            </a:r>
            <a:endParaRPr b="0" lang="en-US" sz="28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191120" y="1981080"/>
            <a:ext cx="447192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29760" y="507600"/>
            <a:ext cx="83566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d99"/>
                </a:solidFill>
                <a:latin typeface="Lucida Grande"/>
              </a:rPr>
              <a:t>Government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Lucida Grande"/>
              </a:rPr>
              <a:t>One king/emperor who ruled over all – chosen by a council of nobles and priests</a:t>
            </a:r>
            <a:br>
              <a:rPr sz="3000"/>
            </a:br>
            <a:r>
              <a:rPr b="0" lang="en-US" sz="3000" spc="-1" strike="noStrike">
                <a:solidFill>
                  <a:srgbClr val="d90b00"/>
                </a:solidFill>
                <a:latin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Lucida Grande"/>
              </a:rPr>
              <a:t>Nobles served as judges, officials, and governors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lvl="2" marL="1044720" indent="-228600">
              <a:lnSpc>
                <a:spcPct val="10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Wore elaborate gold jewelry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Lucida Grande"/>
              </a:rPr>
              <a:t>Most crimes punishable by death or being sold into slavery 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90080" y="228240"/>
            <a:ext cx="8496360" cy="6629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</a:rPr>
              <a:t>Economy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Based on agriculture</a:t>
            </a:r>
            <a:br>
              <a:rPr sz="2800"/>
            </a:b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Farming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Lucida Grande"/>
              </a:rPr>
              <a:t>Filled in lakes and made channels for irrigation</a:t>
            </a:r>
            <a:endParaRPr b="0" lang="en-US" sz="28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Lucida Grande"/>
              </a:rPr>
              <a:t>Grew corn, squash, and beans</a:t>
            </a:r>
            <a:endParaRPr b="0" lang="en-US" sz="2800" spc="-1" strike="noStrike">
              <a:solidFill>
                <a:srgbClr val="fefac9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Lucida Grande"/>
              </a:rPr>
              <a:t>Aztecs conquered others and made them pay tribute, or money paid by conquered people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525920" y="914400"/>
            <a:ext cx="4008600" cy="539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orie Tucker</dc:creator>
  <dc:description/>
  <dc:language>en-US</dc:language>
  <cp:lastModifiedBy/>
  <cp:revision>0</cp:revision>
  <dc:subject/>
  <dc:title>Aztec Civilization</dc:title>
</cp:coreProperties>
</file>